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AD55-BA6B-4AA5-B0B8-BE264A766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presentation is about Moodle. I know it is a crazy name but when you hear the origins you will understand where the name comes from.  Before we begin to discuss Moodle, I would like to give you a brief history of online educ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learning has been around since the 1960’s.  Classes were given and student took the material and learned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computing really took off in the 1980’s but there really was not a lot of computers to go around so learning on a computer was difficul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0’s by this time multimedia was used during presentations and the Internet was just becoming widely used as a means of commun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arning is just beginning but mostly text based but as soon as the multimedia hits the Internet there is a splash of online learning software being developed immediate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ftware is used for higher education but soon finds its way down to the education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Dougiams created Moodle with the backbone of the Blackboard online learning softw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ilosophy in which Moodle was built is that students would be active participants in contributing to the educational experience using the softw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also is an outcomes oriented learning enviorn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e background of online learning and the history of Moodle behind us, we can focus on Moodle as an innovation for this school.</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ing on need-in order to have a well run and organized classroom, you need tools.  These tools can be in many forms such as blackboards, projectors, etc. but having an organizational tool that will allow a communication channel between students and teachers is invaluabl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between the students and teachers is essential for a successful learning enviornmen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cation channel needs be effective and timely to be successful and maintain that channel between the educator and studen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is widely used as a medium for educational purposes in a variety of different form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builds that communication channel that is needed between educators and students with online learnin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uses a variety of different mediums of technology such as the Internet, journaling, forums, quizzes and more.  Students can take advantage of all these mediums on the Moodle server to enhance their educational experienc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helps organize the classroom as well.  By providing structure to the curriculum, it also alleviates the work done year after year because each class can be transfer year after year and modified to meet any needs that an educator might hav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Dougiamas has very interesting roots.  He was originally from an aboriginal area of Austrailia where from primary school started distant learning using a shortwave radio and waiting for a plane to drop off 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better roots to start working on a constructivist theory of online edu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4D7F9-7F7C-497F-B781-E694AD37D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B2330-E81B-4E43-A71B-2143F3E1C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A64A4-4780-4CC9-9CF2-7B6658DC0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7FC4C-F620-43EE-B535-511705D56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0D7E7-DA7B-4306-831A-C6557CE74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88013-CE4D-4F58-AA92-79FE519D8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4AA86-1F1F-4B8A-9827-1294843A5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E8DE1-2284-4EB7-ADCF-96911962A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A6950-2045-43A2-B682-21AAD8F04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CEF3E-AAFA-49EF-A68A-5EF5B625E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EC991-4BA1-455E-9AA5-DD1D13926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E2994-0377-4669-9F5D-CE3837AF1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551B-F0E2-4764-9A1E-C2A8F09BE3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moodle.org/stats/" TargetMode="External"/><Relationship Id="rId2" Type="http://schemas.openxmlformats.org/officeDocument/2006/relationships/hyperlink" Target="http://en.wikipedia.org/wiki/Moodle"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oodle.org/st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en.wikipedia.org/wiki/Mood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Online Educa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Revolution of the early 8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becomes mainstre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 1990’s brings the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arning is established in businesses and higher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is developed for better online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Moodl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99, Moodle is developed by Martin Dougia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ilosophy of Moodle is an outcomes oriented learning environment with a focus on learners contributing to the educational exper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le stands for </a:t>
            </a:r>
            <a:r>
              <a:rPr b="0" i="1" lang="en-US" sz="3200" spc="-1" strike="noStrike">
                <a:solidFill>
                  <a:srgbClr val="000000"/>
                </a:solidFill>
                <a:latin typeface="Arial"/>
              </a:rPr>
              <a:t>Modular Object-Oriented Dynamic Learning Environm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e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need tools to help manage their classroo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another communication channel for teachers and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technology as a medium for education</a:t>
            </a:r>
            <a:endParaRPr b="0" lang="en-US" sz="3200" spc="-1" strike="noStrike">
              <a:solidFill>
                <a:srgbClr val="000000"/>
              </a:solidFill>
              <a:latin typeface="Arial"/>
            </a:endParaRPr>
          </a:p>
        </p:txBody>
      </p:sp>
      <p:pic>
        <p:nvPicPr>
          <p:cNvPr id="55" name="" descr=""/>
          <p:cNvPicPr/>
          <p:nvPr/>
        </p:nvPicPr>
        <p:blipFill>
          <a:blip r:embed="rId1"/>
          <a:stretch/>
        </p:blipFill>
        <p:spPr>
          <a:xfrm>
            <a:off x="6858000" y="6286680"/>
            <a:ext cx="2286000" cy="57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tin Dougiamas saw a need for an open-source software that used a socially conscious way to educat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saw a need for students to become an important part of their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learning is a new medium in education that was rapidly blending into the educational process.</a:t>
            </a:r>
            <a:endParaRPr b="0" lang="en-US" sz="3200" spc="-1" strike="noStrike">
              <a:solidFill>
                <a:srgbClr val="000000"/>
              </a:solidFill>
              <a:latin typeface="Arial"/>
            </a:endParaRPr>
          </a:p>
        </p:txBody>
      </p:sp>
      <p:pic>
        <p:nvPicPr>
          <p:cNvPr id="58" name="" descr=""/>
          <p:cNvPicPr/>
          <p:nvPr/>
        </p:nvPicPr>
        <p:blipFill>
          <a:blip r:embed="rId1"/>
          <a:stretch/>
        </p:blipFill>
        <p:spPr>
          <a:xfrm>
            <a:off x="6858000" y="6286680"/>
            <a:ext cx="2286000" cy="57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is still developing in some area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dle is a server based learning system and must have a ho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ors can have an online only class or a blended learning cl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having to pay license fees or to limit growth, an institution can add as many Moodle servers as need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ment of Moodle continues as a free software project supported by a team of programmers and an international user community, drawing upon contributions posted to the online Moodle Community website that encourages debate and invites criticism. </a:t>
            </a:r>
            <a:endParaRPr b="0" lang="en-US" sz="2400" spc="-1" strike="noStrike">
              <a:solidFill>
                <a:srgbClr val="000000"/>
              </a:solidFill>
              <a:latin typeface="Arial"/>
            </a:endParaRPr>
          </a:p>
        </p:txBody>
      </p:sp>
      <p:pic>
        <p:nvPicPr>
          <p:cNvPr id="61" name="" descr=""/>
          <p:cNvPicPr/>
          <p:nvPr/>
        </p:nvPicPr>
        <p:blipFill>
          <a:blip r:embed="rId1"/>
          <a:stretch/>
        </p:blipFill>
        <p:spPr>
          <a:xfrm>
            <a:off x="6858000" y="6286680"/>
            <a:ext cx="2286000" cy="57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rcializat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can freely distribute and modify the software under the terms of the GNU General Public License because this is open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of the product is done on the Internet and supported through a community of users.  </a:t>
            </a:r>
            <a:endParaRPr b="0" lang="en-US" sz="3200" spc="-1" strike="noStrike">
              <a:solidFill>
                <a:srgbClr val="000000"/>
              </a:solidFill>
              <a:latin typeface="Arial"/>
            </a:endParaRPr>
          </a:p>
        </p:txBody>
      </p:sp>
      <p:pic>
        <p:nvPicPr>
          <p:cNvPr id="64" name="" descr=""/>
          <p:cNvPicPr/>
          <p:nvPr/>
        </p:nvPicPr>
        <p:blipFill>
          <a:blip r:embed="rId1"/>
          <a:stretch/>
        </p:blipFill>
        <p:spPr>
          <a:xfrm>
            <a:off x="6858000" y="6286680"/>
            <a:ext cx="2286000" cy="57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odle Diffusion Curve</a:t>
            </a:r>
            <a:endParaRPr b="0" lang="en-US" sz="4400" spc="-1" strike="noStrike">
              <a:solidFill>
                <a:srgbClr val="000000"/>
              </a:solidFill>
              <a:latin typeface="Arial"/>
            </a:endParaRPr>
          </a:p>
        </p:txBody>
      </p:sp>
      <p:pic>
        <p:nvPicPr>
          <p:cNvPr id="66" name="Moodle S Curve" descr=""/>
          <p:cNvPicPr/>
          <p:nvPr/>
        </p:nvPicPr>
        <p:blipFill>
          <a:blip r:embed="rId1"/>
          <a:stretch/>
        </p:blipFill>
        <p:spPr>
          <a:xfrm>
            <a:off x="0" y="1641600"/>
            <a:ext cx="9144000" cy="4987800"/>
          </a:xfrm>
          <a:prstGeom prst="rect">
            <a:avLst/>
          </a:prstGeom>
          <a:ln w="0">
            <a:noFill/>
          </a:ln>
        </p:spPr>
      </p:pic>
      <p:sp>
        <p:nvSpPr>
          <p:cNvPr id="67" name=""/>
          <p:cNvSpPr/>
          <p:nvPr/>
        </p:nvSpPr>
        <p:spPr>
          <a:xfrm>
            <a:off x="419040" y="6019920"/>
            <a:ext cx="76582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57200" y="5715000"/>
            <a:ext cx="1600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ea typeface="Times New Roman"/>
              </a:rPr>
              <a:t>Early Adopters</a:t>
            </a:r>
            <a:endParaRPr b="0" lang="en-US" sz="800" spc="-1" strike="noStrike">
              <a:solidFill>
                <a:srgbClr val="000000"/>
              </a:solidFill>
              <a:latin typeface="Arial"/>
            </a:endParaRPr>
          </a:p>
        </p:txBody>
      </p:sp>
      <p:sp>
        <p:nvSpPr>
          <p:cNvPr id="69" name=""/>
          <p:cNvSpPr/>
          <p:nvPr/>
        </p:nvSpPr>
        <p:spPr>
          <a:xfrm>
            <a:off x="419040" y="3809880"/>
            <a:ext cx="765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257480" y="3505320"/>
            <a:ext cx="1600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Times New Roman"/>
              </a:rPr>
              <a:t>Early Majority</a:t>
            </a:r>
            <a:endParaRPr b="0" lang="en-US" sz="800" spc="-1" strike="noStrike">
              <a:solidFill>
                <a:srgbClr val="000000"/>
              </a:solidFill>
              <a:latin typeface="Arial"/>
            </a:endParaRPr>
          </a:p>
        </p:txBody>
      </p:sp>
      <p:sp>
        <p:nvSpPr>
          <p:cNvPr id="71" name=""/>
          <p:cNvSpPr/>
          <p:nvPr/>
        </p:nvSpPr>
        <p:spPr>
          <a:xfrm>
            <a:off x="419040" y="2971800"/>
            <a:ext cx="7658280" cy="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191120" y="2286000"/>
            <a:ext cx="1600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Laggards</a:t>
            </a:r>
            <a:endParaRPr b="0" lang="en-US" sz="800" spc="-1" strike="noStrike">
              <a:solidFill>
                <a:srgbClr val="000000"/>
              </a:solidFill>
              <a:latin typeface="Arial"/>
            </a:endParaRPr>
          </a:p>
        </p:txBody>
      </p:sp>
      <p:sp>
        <p:nvSpPr>
          <p:cNvPr id="73" name=""/>
          <p:cNvSpPr/>
          <p:nvPr/>
        </p:nvSpPr>
        <p:spPr>
          <a:xfrm>
            <a:off x="2743200" y="2819520"/>
            <a:ext cx="1600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Times New Roman"/>
              </a:rPr>
              <a:t>Late Majority</a:t>
            </a:r>
            <a:endParaRPr b="0" lang="en-US" sz="800" spc="-1" strike="noStrike">
              <a:solidFill>
                <a:srgbClr val="000000"/>
              </a:solidFill>
              <a:latin typeface="Arial"/>
            </a:endParaRPr>
          </a:p>
        </p:txBody>
      </p:sp>
      <p:sp>
        <p:nvSpPr>
          <p:cNvPr id="74" name=""/>
          <p:cNvSpPr/>
          <p:nvPr/>
        </p:nvSpPr>
        <p:spPr>
          <a:xfrm>
            <a:off x="419040" y="2590920"/>
            <a:ext cx="7658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ors:  In 1999, early users of Moodle tried out the model looking for an alternative online learning program.  This stage included working with the model and making improvements as necessa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Adopters:  Moodle 1.0 is release in 2002 as Open Source.  This allows educators to use the program and manipulate pieces to fit needs.  Primarily used for higher edu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Majority:  Moodle is finally taking its place in online education moving from higher education to public education.  Moodle becoming more common place in all forms of edu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Majority:  Adoption is still happening but is starting to slow down with members becoming skeptical with online edu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ggards:  A small portion of educators that fail to embrace technology as a means to educate individuals.</a:t>
            </a:r>
            <a:endParaRPr b="0" lang="en-US" sz="2000" spc="-1" strike="noStrike">
              <a:solidFill>
                <a:srgbClr val="000000"/>
              </a:solidFill>
              <a:latin typeface="Arial"/>
            </a:endParaRPr>
          </a:p>
        </p:txBody>
      </p:sp>
      <p:sp>
        <p:nvSpPr>
          <p:cNvPr id="7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odle Diffusion Curv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17:51:24Z</dcterms:created>
  <dc:creator>scarey</dc:creator>
  <dc:description/>
  <dc:language>en-US</dc:language>
  <cp:lastModifiedBy>scarey</cp:lastModifiedBy>
  <dcterms:modified xsi:type="dcterms:W3CDTF">2010-11-10T00:59:39Z</dcterms:modified>
  <cp:revision>6</cp:revision>
  <dc:subject/>
  <dc:title>Slide 1</dc:title>
</cp:coreProperties>
</file>